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0" y="8869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0" y="239760"/>
          <a:ext cx="6858000" cy="86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858000" cy="86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0"/>
          <a:ext cx="6840360" cy="912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99680" y="88390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274920" y="1357200"/>
            <a:ext cx="626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9840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848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7800" y="4738680"/>
            <a:ext cx="630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2200" y="4911840"/>
            <a:ext cx="3900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51760" y="6707160"/>
            <a:ext cx="1163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yment Due Dat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30800" y="7058160"/>
            <a:ext cx="3268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6989760"/>
            <a:ext cx="3808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32400" y="7682040"/>
            <a:ext cx="660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84600" y="8236080"/>
            <a:ext cx="368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8600" y="8097840"/>
            <a:ext cx="13575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274920" y="1357200"/>
            <a:ext cx="626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0000" y="85294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59760" y="8485200"/>
            <a:ext cx="1020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Betty Hold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83120" y="7653240"/>
            <a:ext cx="9277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Paul Swan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0000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1120" y="55627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0360" y="542304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52578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57150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57280" y="46836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87360" y="46188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6640" y="685800"/>
            <a:ext cx="2003400" cy="13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9144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43400" y="1371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343400" y="1599840"/>
            <a:ext cx="2001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18200" y="700200"/>
            <a:ext cx="1477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71256-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62120" y="93996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56920" y="1047600"/>
            <a:ext cx="81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 MA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62560" y="1393920"/>
            <a:ext cx="124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24680" y="162252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57280" y="1638360"/>
            <a:ext cx="1299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05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0600" y="550800"/>
            <a:ext cx="244728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MINGTON SUPPLY OUT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67 CENTRAL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TOWN, OHIO  45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30400" y="150804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9760" y="173844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89440" y="2073240"/>
            <a:ext cx="261720" cy="288720"/>
            <a:chOff x="3889440" y="2073240"/>
            <a:chExt cx="261720" cy="288720"/>
          </a:xfrm>
        </p:grpSpPr>
        <p:sp>
          <p:nvSpPr>
            <p:cNvPr id="340" name=""/>
            <p:cNvSpPr/>
            <p:nvPr/>
          </p:nvSpPr>
          <p:spPr>
            <a:xfrm flipV="1">
              <a:off x="4151160" y="20732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89440" y="2354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49440" y="2106720"/>
            <a:ext cx="280800" cy="288720"/>
            <a:chOff x="649440" y="2106720"/>
            <a:chExt cx="280800" cy="288720"/>
          </a:xfrm>
        </p:grpSpPr>
        <p:sp>
          <p:nvSpPr>
            <p:cNvPr id="343" name=""/>
            <p:cNvSpPr/>
            <p:nvPr/>
          </p:nvSpPr>
          <p:spPr>
            <a:xfrm flipV="1">
              <a:off x="6555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49440" y="2387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889440" y="1430280"/>
            <a:ext cx="261720" cy="273240"/>
            <a:chOff x="3889440" y="1430280"/>
            <a:chExt cx="261720" cy="273240"/>
          </a:xfrm>
        </p:grpSpPr>
        <p:sp>
          <p:nvSpPr>
            <p:cNvPr id="346" name=""/>
            <p:cNvSpPr/>
            <p:nvPr/>
          </p:nvSpPr>
          <p:spPr>
            <a:xfrm>
              <a:off x="4151160" y="14400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9440" y="14302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25000" y="2481120"/>
            <a:ext cx="23742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0120" y="260352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8560" y="337500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8200" y="376380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98800" y="3773520"/>
            <a:ext cx="156024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ps,  100, Styrofo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26600" y="376380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65520" y="3754440"/>
            <a:ext cx="7574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22320" y="3763800"/>
            <a:ext cx="8456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1880" y="493380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4720" y="3770280"/>
            <a:ext cx="418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414504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452448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0040" y="490680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50040" y="53229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9760" y="581652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21600" y="581652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023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49440" y="1433520"/>
            <a:ext cx="280800" cy="266760"/>
            <a:chOff x="649440" y="1433520"/>
            <a:chExt cx="280800" cy="266760"/>
          </a:xfrm>
        </p:grpSpPr>
        <p:sp>
          <p:nvSpPr>
            <p:cNvPr id="395" name=""/>
            <p:cNvSpPr/>
            <p:nvPr/>
          </p:nvSpPr>
          <p:spPr>
            <a:xfrm>
              <a:off x="655560" y="14367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440" y="1433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34040" y="417996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24000" y="4189320"/>
            <a:ext cx="1238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ks, 50, Pla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4360" y="417996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34880" y="417996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51280" y="417996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56960" y="417996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4040" y="454176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88360" y="4557600"/>
            <a:ext cx="1362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oons, 50, Pla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87880" y="454176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44240" y="454176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1280" y="454176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56960" y="454176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8200" y="491004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3480" y="491004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44240" y="491004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51280" y="491004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56960" y="491004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73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9600" y="4925880"/>
            <a:ext cx="1307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ives, 50, Plast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97000" y="6553080"/>
            <a:ext cx="430992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40120" y="259092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3258360" y="13572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0000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3274200" y="13572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04800" y="8529480"/>
            <a:ext cx="693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1680" y="7653240"/>
            <a:ext cx="1083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ohn Free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16000" y="8485200"/>
            <a:ext cx="849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im Ma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68040" y="6961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9800" y="4782960"/>
            <a:ext cx="527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71600" y="4911840"/>
            <a:ext cx="1054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2000" y="6643800"/>
            <a:ext cx="7603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30800" y="7068960"/>
            <a:ext cx="476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70600" y="7068960"/>
            <a:ext cx="469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9600" y="8236080"/>
            <a:ext cx="2383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84600" y="8236080"/>
            <a:ext cx="3110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411480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52578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54100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55627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846680" y="549360"/>
            <a:ext cx="1684440" cy="245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46680" y="915840"/>
            <a:ext cx="1684440" cy="247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46680" y="1305000"/>
            <a:ext cx="1684440" cy="247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7160" y="428760"/>
            <a:ext cx="6403680" cy="2305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6440" y="631800"/>
            <a:ext cx="2592000" cy="75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JOHNSON OFFICE EQUIPMENT IN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142 OSCAR DR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ADING, PA  321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62200" y="1739880"/>
            <a:ext cx="2104200" cy="58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0720" y="1916280"/>
            <a:ext cx="6962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78480" y="561960"/>
            <a:ext cx="1157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78120" y="939960"/>
            <a:ext cx="968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VOICE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78840" y="1324080"/>
            <a:ext cx="11001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19840" y="1324080"/>
            <a:ext cx="1400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FI01-**-F-0391, 00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21640" y="94608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0920" y="598320"/>
            <a:ext cx="546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10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39680" y="360360"/>
            <a:ext cx="6578640" cy="2459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5040" y="3156120"/>
            <a:ext cx="62449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           QUANTITY              DESCRIPTION             UNIT PRICE   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7320" y="3581280"/>
            <a:ext cx="61524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57000" y="3581280"/>
            <a:ext cx="318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65280" y="3581280"/>
            <a:ext cx="16182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vel Chairs w/o a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vel Chairs w/a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 Desks, D.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ight Char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82720" y="3581280"/>
            <a:ext cx="59256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2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59280" y="3581280"/>
            <a:ext cx="78912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,75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,12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4,231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8080" y="3068640"/>
            <a:ext cx="6433920" cy="221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524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4324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2604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25920" y="307332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7160" y="3409920"/>
            <a:ext cx="6395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81480" y="5372280"/>
            <a:ext cx="1331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HANDI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82920" y="5719680"/>
            <a:ext cx="874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82920" y="6134040"/>
            <a:ext cx="12294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61080" y="538812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106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57840" y="5734080"/>
            <a:ext cx="789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61080" y="614988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205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54520" y="5354640"/>
            <a:ext cx="98748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54520" y="5734080"/>
            <a:ext cx="987480" cy="25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54520" y="6116760"/>
            <a:ext cx="98748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2360" y="6249960"/>
            <a:ext cx="3932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190512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17640" y="0"/>
          <a:ext cx="6840360" cy="906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0"/>
                    <a:ext cx="6840360" cy="906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328104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35760" y="868680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65160" y="69343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99000" y="7632720"/>
            <a:ext cx="6112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81040" y="8261280"/>
            <a:ext cx="17722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3372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328104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200" y="76834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52320" y="855180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29040" y="7659720"/>
            <a:ext cx="1270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nthony Robe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06120" y="689760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82000" y="8491680"/>
            <a:ext cx="1281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Marsa Rodrigue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5740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67080" y="5257800"/>
            <a:ext cx="20340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67080" y="5410080"/>
            <a:ext cx="20340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7080" y="5562720"/>
            <a:ext cx="20340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57280" y="46836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93480" y="38268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6640" y="588960"/>
            <a:ext cx="2003400" cy="13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853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12952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153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25040" y="620640"/>
            <a:ext cx="1352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71098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68600" y="86040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64120" y="968400"/>
            <a:ext cx="793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66520" y="1314360"/>
            <a:ext cx="1596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2/10,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30800" y="152388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65560" y="1523880"/>
            <a:ext cx="1455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F-045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34240" y="550800"/>
            <a:ext cx="183168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03 GIBS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ENNVILLE, GA 304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30400" y="150804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240" y="174456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889440" y="2106720"/>
            <a:ext cx="261720" cy="288720"/>
            <a:chOff x="3889440" y="2106720"/>
            <a:chExt cx="261720" cy="288720"/>
          </a:xfrm>
        </p:grpSpPr>
        <p:sp>
          <p:nvSpPr>
            <p:cNvPr id="536" name=""/>
            <p:cNvSpPr/>
            <p:nvPr/>
          </p:nvSpPr>
          <p:spPr>
            <a:xfrm flipV="1">
              <a:off x="41511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89440" y="2387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9440" y="2106720"/>
            <a:ext cx="280800" cy="288720"/>
            <a:chOff x="649440" y="2106720"/>
            <a:chExt cx="280800" cy="288720"/>
          </a:xfrm>
        </p:grpSpPr>
        <p:sp>
          <p:nvSpPr>
            <p:cNvPr id="539" name=""/>
            <p:cNvSpPr/>
            <p:nvPr/>
          </p:nvSpPr>
          <p:spPr>
            <a:xfrm flipV="1">
              <a:off x="6555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49440" y="2387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889440" y="1430280"/>
            <a:ext cx="261720" cy="273240"/>
            <a:chOff x="3889440" y="1430280"/>
            <a:chExt cx="261720" cy="273240"/>
          </a:xfrm>
        </p:grpSpPr>
        <p:sp>
          <p:nvSpPr>
            <p:cNvPr id="542" name=""/>
            <p:cNvSpPr/>
            <p:nvPr/>
          </p:nvSpPr>
          <p:spPr>
            <a:xfrm>
              <a:off x="4151160" y="14400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89440" y="14302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125360" y="2481120"/>
            <a:ext cx="20160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6600" y="261000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5040" y="338148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4680" y="377028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06360" y="3780000"/>
            <a:ext cx="161352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BM, Computer, 486D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3080" y="377028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56160" y="3755880"/>
            <a:ext cx="7556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93080" y="3770280"/>
            <a:ext cx="9738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9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80" y="493380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66200" y="3776760"/>
            <a:ext cx="419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50040" y="414504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50040" y="452448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50040" y="490680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50040" y="53229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36240" y="582300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44920" y="5823000"/>
            <a:ext cx="930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58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49440" y="1433520"/>
            <a:ext cx="280800" cy="266760"/>
            <a:chOff x="649440" y="1433520"/>
            <a:chExt cx="280800" cy="266760"/>
          </a:xfrm>
        </p:grpSpPr>
        <p:sp>
          <p:nvSpPr>
            <p:cNvPr id="591" name=""/>
            <p:cNvSpPr/>
            <p:nvPr/>
          </p:nvSpPr>
          <p:spPr>
            <a:xfrm>
              <a:off x="655560" y="14367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49440" y="1433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40520" y="418608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28680" y="4195800"/>
            <a:ext cx="14032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BM  Color Moni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48640" y="4186080"/>
            <a:ext cx="290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1000" y="418608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54720" y="418608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28080" y="418608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37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0520" y="454824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91600" y="4564080"/>
            <a:ext cx="1365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er Jet IV Pri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48640" y="4548240"/>
            <a:ext cx="290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50720" y="454824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54720" y="454824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8080" y="454824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12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680" y="491652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79600" y="490680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51440" y="4906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59200" y="491652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29520" y="491652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  9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6080" y="4932360"/>
            <a:ext cx="1167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ight Char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17640" y="3770280"/>
            <a:ext cx="759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00600" y="24796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7000" y="241200"/>
            <a:ext cx="295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REHENSIVE PRACTICAL EXERC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9840" y="1585800"/>
            <a:ext cx="626328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are a voucher examiner working in the Accounts Payable Branch at F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wart, GA. This supplement  contains  pages 1- 52.  You will use these documents  to comple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stions 1-47 in the Practical Exercis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have received various contractual documents into your office, to includ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760" y="86868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1160" y="868680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200" y="2500200"/>
            <a:ext cx="379152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DD Form 1155, Copy 1 (Contract &amp; Payment Voucher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DD Form 1155, Copy 8 (Receiving Repor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SF 33s (Contrac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DA Forms 3900 (Bills Register Card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DD Form 250 (Receiving Repor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.  SF Form 1034 (Payment Voucher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.  Vendor’s Invo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8080" y="379440"/>
            <a:ext cx="1627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39280" y="449280"/>
            <a:ext cx="162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2720" y="480960"/>
            <a:ext cx="58608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DO NOT WRITE IN THIS BOOKLET. YOU WILL TURN IT IN TO YOUR INSTRUCTOR UP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 Rounded MT Bold"/>
              </a:rPr>
              <a:t>COMPLETION OF THE ANSWER SHE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7920" y="5229360"/>
            <a:ext cx="62571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TO INSTRUCTOR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Allow 6 periods for the class to complete the Comprehensive Pract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ercise and review in the remaining 2 periods to ensure all questions are resolved. Each stud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st be provided an Answer Sheet and Payment Due Date Shee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6080" y="86868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"/>
          <p:cNvSpPr/>
          <p:nvPr/>
        </p:nvSpPr>
        <p:spPr>
          <a:xfrm>
            <a:off x="3264840" y="13636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6516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86360" y="5397480"/>
            <a:ext cx="45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56520" y="5397480"/>
            <a:ext cx="310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62040" y="5397480"/>
            <a:ext cx="578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0.267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0.33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33080" y="5397480"/>
            <a:ext cx="738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606.8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861.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900040" y="6851520"/>
            <a:ext cx="674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3,468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61722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9968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114800" y="5403960"/>
            <a:ext cx="68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,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3280680" y="13572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488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8032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1120" y="768348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13440" y="7659720"/>
            <a:ext cx="9612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obert Gill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74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2480" y="61722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397480"/>
            <a:ext cx="761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26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3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91320" y="5375160"/>
            <a:ext cx="6858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606.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861.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14800" y="5486400"/>
            <a:ext cx="4572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114800" y="5715000"/>
            <a:ext cx="4572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9840" y="550080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4000" y="58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,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57276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542304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1320" y="6867360"/>
            <a:ext cx="685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,46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"/>
          <p:cNvSpPr/>
          <p:nvPr/>
        </p:nvSpPr>
        <p:spPr>
          <a:xfrm>
            <a:off x="4361400" y="645156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40880" y="6411960"/>
            <a:ext cx="789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. P. Get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59360" y="4289400"/>
            <a:ext cx="450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267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37200" y="4287960"/>
            <a:ext cx="504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4040" y="4289400"/>
            <a:ext cx="578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18280" y="4289400"/>
            <a:ext cx="342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33080" y="4289400"/>
            <a:ext cx="675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1.7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19760" y="4565520"/>
            <a:ext cx="450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18280" y="4565520"/>
            <a:ext cx="342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959360" y="4565520"/>
            <a:ext cx="4507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34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68800" y="4565520"/>
            <a:ext cx="546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23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03360" y="52578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01040" y="86868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51960" y="8686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778360" y="86868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86200" y="44956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41911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880920" y="5686560"/>
            <a:ext cx="2256120" cy="709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18280" y="5548320"/>
            <a:ext cx="784080" cy="276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280" y="3538440"/>
            <a:ext cx="5356080" cy="373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280" y="4300560"/>
            <a:ext cx="5356080" cy="372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280" y="5068800"/>
            <a:ext cx="5356080" cy="373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280" y="3922560"/>
            <a:ext cx="5356080" cy="3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280" y="4684680"/>
            <a:ext cx="5356080" cy="37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396720"/>
            <a:ext cx="3640320" cy="722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LLOG SAND AND GRAVEL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111 WEST DAYTON A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AN, GA  304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26280" y="1276200"/>
            <a:ext cx="1104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OICE 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7440" y="1276200"/>
            <a:ext cx="612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26280" y="1623960"/>
            <a:ext cx="10270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DER N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06640" y="1292400"/>
            <a:ext cx="723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12-L-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21880" y="1292400"/>
            <a:ext cx="81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69920" y="1638360"/>
            <a:ext cx="1316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M-349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0360" y="2154240"/>
            <a:ext cx="1640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954600" y="2154240"/>
            <a:ext cx="15130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160" y="2533680"/>
            <a:ext cx="1394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 Gloucester 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tton Under Ed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49560" y="2533680"/>
            <a:ext cx="1394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 Gloucester 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tton Under Ed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31880" y="2398680"/>
            <a:ext cx="2138400" cy="6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5400" y="2398680"/>
            <a:ext cx="2138400" cy="6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46280" y="3192480"/>
            <a:ext cx="5356080" cy="18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9000" y="3263760"/>
            <a:ext cx="5451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                        Description                    Qty                 Unit Price                  Pr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15760" y="3641760"/>
            <a:ext cx="5353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        General Construction Gravel     1500 lb               0.2678                 401.70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21880" y="4403880"/>
            <a:ext cx="5346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        General Construction Sand       1250 lb               0.3482                 435.25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240" y="5581800"/>
            <a:ext cx="473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320440" y="5581800"/>
            <a:ext cx="668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36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0320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9076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9420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22960" y="3189240"/>
            <a:ext cx="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64160" y="5710320"/>
            <a:ext cx="18864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JUNE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1040" y="86868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51960" y="8686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78360" y="868680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3280680" y="13636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023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6061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20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55120" y="876312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68152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4792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0" y="0"/>
          <a:ext cx="6840360" cy="89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89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3280680" y="133200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120" y="754524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05520" y="83599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69160" y="85345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06120" y="67597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56400" y="7451640"/>
            <a:ext cx="860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Carl Ban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31760" y="8283600"/>
            <a:ext cx="1161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Thomas Mo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180680" y="5246640"/>
            <a:ext cx="290880" cy="220320"/>
            <a:chOff x="4180680" y="5246640"/>
            <a:chExt cx="290880" cy="220320"/>
          </a:xfrm>
        </p:grpSpPr>
        <p:sp>
          <p:nvSpPr>
            <p:cNvPr id="722" name=""/>
            <p:cNvSpPr/>
            <p:nvPr/>
          </p:nvSpPr>
          <p:spPr>
            <a:xfrm>
              <a:off x="4226040" y="5246640"/>
              <a:ext cx="18864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80680" y="5246640"/>
              <a:ext cx="2908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283640" y="5391000"/>
            <a:ext cx="290880" cy="220320"/>
            <a:chOff x="4283640" y="5391000"/>
            <a:chExt cx="290880" cy="220320"/>
          </a:xfrm>
        </p:grpSpPr>
        <p:sp>
          <p:nvSpPr>
            <p:cNvPr id="725" name=""/>
            <p:cNvSpPr/>
            <p:nvPr/>
          </p:nvSpPr>
          <p:spPr>
            <a:xfrm>
              <a:off x="4329000" y="5391000"/>
              <a:ext cx="189000" cy="19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83640" y="5391000"/>
              <a:ext cx="29088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447920" y="60958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200" y="8610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55120" y="8610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10080" y="85345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95680" y="5334120"/>
            <a:ext cx="20340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35440" y="542304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35440" y="55627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51814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5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2203920" y="68515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54920" y="644220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04200" y="6827760"/>
            <a:ext cx="860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Carl Ban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86960" y="6411960"/>
            <a:ext cx="780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Fred Car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52578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20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55120" y="8620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10080" y="86104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114800" y="41911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49568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208080" y="3486240"/>
            <a:ext cx="6433920" cy="1865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7160" y="504720"/>
            <a:ext cx="6403680" cy="2305080"/>
          </a:xfrm>
          <a:prstGeom prst="rect">
            <a:avLst/>
          </a:prstGeom>
          <a:solidFill>
            <a:srgbClr val="cecec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59320" y="708120"/>
            <a:ext cx="241812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MITH CORONA INCORPORA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2121 LUDLOW STRE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AYTON, OHIO  451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2200" y="1816200"/>
            <a:ext cx="21042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7200" y="1998720"/>
            <a:ext cx="7084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LD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51760" y="633240"/>
            <a:ext cx="12722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50320" y="1011240"/>
            <a:ext cx="106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OICE 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52120" y="1395360"/>
            <a:ext cx="1209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94920" y="1395360"/>
            <a:ext cx="12096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FI01-**-M-8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94560" y="1017720"/>
            <a:ext cx="8074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93120" y="669960"/>
            <a:ext cx="6962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3 - 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9680" y="436680"/>
            <a:ext cx="6578640" cy="24588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2240" y="3232080"/>
            <a:ext cx="62114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QUANTITY                  DESCRIPTION                   UNIT PRIC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7200" y="3295800"/>
            <a:ext cx="28008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93480" y="3657600"/>
            <a:ext cx="3960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35520" y="3657600"/>
            <a:ext cx="23346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mith Corona Typewriter #056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A Model Ribbons #05619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A Model Corr. Ribbons #05619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lculator, Battery Op.  #056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90080" y="3657600"/>
            <a:ext cx="5940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7.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65760" y="3657600"/>
            <a:ext cx="78912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4,798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49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598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47.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63640" y="312588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3000" y="314316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27640" y="314316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76760" y="3143160"/>
            <a:ext cx="0" cy="22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7160" y="3505320"/>
            <a:ext cx="6395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89040" y="5448240"/>
            <a:ext cx="12294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67560" y="546408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,919.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75320" y="5424480"/>
            <a:ext cx="1066680" cy="25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52360" y="5557680"/>
            <a:ext cx="3932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01600" y="3157560"/>
            <a:ext cx="6440400" cy="3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5791320"/>
            <a:ext cx="167616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20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55120" y="8620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738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325872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26520" y="22795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21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39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59850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4200" y="8772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9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3265200" y="1363680"/>
            <a:ext cx="69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94840" y="231156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7720" y="7715160"/>
            <a:ext cx="659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405520" y="8547120"/>
            <a:ext cx="7419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691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044000" y="8491680"/>
            <a:ext cx="10360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Chris Wes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7600" y="7659720"/>
            <a:ext cx="939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. Mahone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74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7920" y="598500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200" y="8772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91120" y="52704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67360" y="1357200"/>
            <a:ext cx="673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Apri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0040" y="689148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2964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019920"/>
            <a:ext cx="1600200" cy="547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346040" y="601992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981680" y="4700520"/>
            <a:ext cx="1216080" cy="2080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0520" y="3470400"/>
            <a:ext cx="5637240" cy="2775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0520" y="3862440"/>
            <a:ext cx="5637240" cy="2793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0520" y="4248000"/>
            <a:ext cx="5637240" cy="277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1480" y="260280"/>
            <a:ext cx="3165120" cy="7225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STON COMPUTER FURNI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1 HOLSTON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SHVILLE, TN  46912-0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01840" y="1322280"/>
            <a:ext cx="877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577800" y="1568520"/>
            <a:ext cx="2933640" cy="736560"/>
            <a:chOff x="577800" y="1568520"/>
            <a:chExt cx="2933640" cy="736560"/>
          </a:xfrm>
        </p:grpSpPr>
        <p:sp>
          <p:nvSpPr>
            <p:cNvPr id="811" name=""/>
            <p:cNvSpPr/>
            <p:nvPr/>
          </p:nvSpPr>
          <p:spPr>
            <a:xfrm>
              <a:off x="577800" y="1568520"/>
              <a:ext cx="2933640" cy="73656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9600" y="1665360"/>
              <a:ext cx="20160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TN:  DOI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T STEWART, GA  313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532040" y="236520"/>
            <a:ext cx="13834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4626000" y="433440"/>
            <a:ext cx="1695600" cy="283680"/>
            <a:chOff x="4626000" y="433440"/>
            <a:chExt cx="1695600" cy="283680"/>
          </a:xfrm>
        </p:grpSpPr>
        <p:sp>
          <p:nvSpPr>
            <p:cNvPr id="815" name=""/>
            <p:cNvSpPr/>
            <p:nvPr/>
          </p:nvSpPr>
          <p:spPr>
            <a:xfrm>
              <a:off x="4645080" y="43344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626000" y="466560"/>
              <a:ext cx="706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7190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533120" y="744480"/>
            <a:ext cx="534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643280" y="939960"/>
            <a:ext cx="1678320" cy="267840"/>
            <a:chOff x="4643280" y="939960"/>
            <a:chExt cx="1678320" cy="267840"/>
          </a:xfrm>
        </p:grpSpPr>
        <p:sp>
          <p:nvSpPr>
            <p:cNvPr id="819" name=""/>
            <p:cNvSpPr/>
            <p:nvPr/>
          </p:nvSpPr>
          <p:spPr>
            <a:xfrm>
              <a:off x="4645080" y="93996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43280" y="957240"/>
              <a:ext cx="7707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JULY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4533480" y="1222200"/>
            <a:ext cx="1311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630680" y="1420920"/>
            <a:ext cx="1690920" cy="275760"/>
            <a:chOff x="4630680" y="1420920"/>
            <a:chExt cx="1690920" cy="275760"/>
          </a:xfrm>
        </p:grpSpPr>
        <p:sp>
          <p:nvSpPr>
            <p:cNvPr id="823" name=""/>
            <p:cNvSpPr/>
            <p:nvPr/>
          </p:nvSpPr>
          <p:spPr>
            <a:xfrm>
              <a:off x="4645080" y="142092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30680" y="1446120"/>
              <a:ext cx="1316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FI01-**-M-416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532760" y="1685880"/>
            <a:ext cx="1421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OUNT 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623120" y="1878120"/>
            <a:ext cx="1698480" cy="256680"/>
            <a:chOff x="4623120" y="1878120"/>
            <a:chExt cx="1698480" cy="256680"/>
          </a:xfrm>
        </p:grpSpPr>
        <p:sp>
          <p:nvSpPr>
            <p:cNvPr id="827" name=""/>
            <p:cNvSpPr/>
            <p:nvPr/>
          </p:nvSpPr>
          <p:spPr>
            <a:xfrm>
              <a:off x="4645080" y="1878120"/>
              <a:ext cx="1676520" cy="226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23120" y="1884240"/>
              <a:ext cx="1105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5/20, NET 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60600" y="3078000"/>
            <a:ext cx="5260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S ORDERED              QTY             UNIT COST    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7800" y="3029040"/>
            <a:ext cx="5607000" cy="322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1680" y="3429000"/>
            <a:ext cx="5613120" cy="115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77800" y="4643280"/>
            <a:ext cx="5607000" cy="32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880" y="3503520"/>
            <a:ext cx="2181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Stations Model BA - 36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0520" y="3809880"/>
            <a:ext cx="563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60520" y="4194000"/>
            <a:ext cx="563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84520" y="342432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3477960" y="3424320"/>
            <a:ext cx="27000" cy="113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046840" y="342432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944440" y="3503520"/>
            <a:ext cx="3182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51720" y="3503520"/>
            <a:ext cx="591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33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29360" y="350352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33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684520" y="30078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3492360" y="30078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054760" y="300780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79760" y="4708440"/>
            <a:ext cx="1401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 This B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229360" y="4692600"/>
            <a:ext cx="785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8,33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648320" y="228600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43200" y="5257800"/>
            <a:ext cx="167004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DO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4200" y="8772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2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3264840" y="1363680"/>
            <a:ext cx="677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41120" y="689760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4200" y="8772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601992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2982240" y="30636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56600" y="592200"/>
            <a:ext cx="2704680" cy="63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ROUGHS OFFICE EQU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 THURSTON BOULE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ESVILLE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3000" y="1563840"/>
            <a:ext cx="6111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CCOU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DAFI01-**-C-1321/D. O. #0110                                                               30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4840" y="1909800"/>
            <a:ext cx="12859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VOICE #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71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56040" y="2395440"/>
            <a:ext cx="6290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SCRIPTION  SUPPLIES/SERVICES              QTY              UNIT COST                TOTAL C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0880" y="2809800"/>
            <a:ext cx="3451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erv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Repairs to Microfiche printer, building #24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47640" y="3097080"/>
            <a:ext cx="2304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R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REEN MICROFICH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LBS, MICROFI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NER, MICROFI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34240" y="3263760"/>
            <a:ext cx="54504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 B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263760"/>
            <a:ext cx="59256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2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4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1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691240" y="2778120"/>
            <a:ext cx="6382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2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3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39480" y="4618080"/>
            <a:ext cx="243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OUNT BILLED                $130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64320" y="5184720"/>
            <a:ext cx="1625760" cy="585360"/>
          </a:xfrm>
          <a:prstGeom prst="rect">
            <a:avLst/>
          </a:prstGeom>
          <a:noFill/>
          <a:ln w="1015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56200" y="5738760"/>
            <a:ext cx="1482480" cy="585360"/>
          </a:xfrm>
          <a:prstGeom prst="rect">
            <a:avLst/>
          </a:prstGeom>
          <a:noFill/>
          <a:ln w="1015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US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DOI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07960" y="6620040"/>
            <a:ext cx="56599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certify we have received and accepted the services called for in DAFI01-**-C-1321 and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livery Order #011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04920" y="7313760"/>
            <a:ext cx="2221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. P. HOLLOWAY, DOIM, US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36840" y="7026120"/>
            <a:ext cx="1237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Handwriting"/>
              </a:rPr>
              <a:t>R. P. Hollo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04200" y="8772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55120" y="87724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4738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0" y="0"/>
          <a:ext cx="6840360" cy="912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>
            <a:off x="227880" y="877248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5512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0240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2600280" y="306360"/>
            <a:ext cx="1808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GRESS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78680" y="871560"/>
            <a:ext cx="561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are a voucher examiner assigned to the Accounts Payable Branch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perating Location at Fort Stewart, GA.  You have the following document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53680" y="1494000"/>
            <a:ext cx="266976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SF 33, Contract (Progress Payment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Certificate of Performanc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SF 1034, Payment Vouch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DA 3900, Blank Bills Register C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1400" y="2994120"/>
            <a:ext cx="5542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must prepare the SF 1034, payment voucher, for this prog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 based on the supporting documents listed above, then post the Bills Regis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2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"/>
          <p:cNvSpPr/>
          <p:nvPr/>
        </p:nvSpPr>
        <p:spPr>
          <a:xfrm>
            <a:off x="5767920" y="5119560"/>
            <a:ext cx="551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78080" y="6481800"/>
            <a:ext cx="1075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ulie Sher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39520" y="81439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19720" y="106668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MARCH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788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83280" y="86104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140120" y="385920"/>
            <a:ext cx="5303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Page 2 of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9080" y="731880"/>
            <a:ext cx="4884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erman Painting Incorporated, 1000 Stedman Drive, Hinesville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289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2600" y="1425600"/>
            <a:ext cx="65451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                 SUPPLIES/SERVICES                       QTY                UNIT            PRICE     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81480" y="1219320"/>
            <a:ext cx="488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8600" y="167652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6560" y="1771560"/>
            <a:ext cx="331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1         Painting and renovation of govern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arters, buildings 100-118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86600" y="2255760"/>
            <a:ext cx="2727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iod of operation:  1 April - 30 Sep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s the removal of old paint and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lication of a new coat of paint to t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rior of buildings 100-118.  Al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ludes the painting of the interior roo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buildings 100-110.  The paint will 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ither latex or enamel colo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teri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Blue with white tri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teri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-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264920" y="2255760"/>
            <a:ext cx="2355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job                              $24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6240" y="4125960"/>
            <a:ext cx="618984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Payment method.  An authorized government representative will approve progres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s based upon percentage of comple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stomary progress payment made at 90% comple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The contractor will obtain and purchase materials and supplies and charges will inclu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se cos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ontractor will submit the invoices directly to the office specified by the contra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 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Make payment at Net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4749840" y="4856040"/>
            <a:ext cx="16668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08080" y="3400560"/>
            <a:ext cx="6237000" cy="2523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206080" y="333360"/>
            <a:ext cx="2439720" cy="25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ERTIFICATE OF PERFORM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21120" y="1587600"/>
            <a:ext cx="621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993240" y="1273320"/>
            <a:ext cx="2979000" cy="7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RECTOR, ENGINEERING AND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BLDG. #1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403200" y="1099800"/>
            <a:ext cx="266760" cy="279720"/>
            <a:chOff x="403200" y="1099800"/>
            <a:chExt cx="266760" cy="279720"/>
          </a:xfrm>
        </p:grpSpPr>
        <p:sp>
          <p:nvSpPr>
            <p:cNvPr id="919" name=""/>
            <p:cNvSpPr/>
            <p:nvPr/>
          </p:nvSpPr>
          <p:spPr>
            <a:xfrm>
              <a:off x="403200" y="1114560"/>
              <a:ext cx="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409680" y="1099800"/>
              <a:ext cx="2602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825360" y="1104840"/>
            <a:ext cx="292680" cy="345960"/>
            <a:chOff x="3825360" y="1104840"/>
            <a:chExt cx="292680" cy="345960"/>
          </a:xfrm>
        </p:grpSpPr>
        <p:sp>
          <p:nvSpPr>
            <p:cNvPr id="922" name=""/>
            <p:cNvSpPr/>
            <p:nvPr/>
          </p:nvSpPr>
          <p:spPr>
            <a:xfrm flipH="1">
              <a:off x="3825360" y="1104840"/>
              <a:ext cx="28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102200" y="1111320"/>
              <a:ext cx="15840" cy="33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76200" y="1966680"/>
            <a:ext cx="273240" cy="301320"/>
            <a:chOff x="376200" y="1966680"/>
            <a:chExt cx="273240" cy="301320"/>
          </a:xfrm>
        </p:grpSpPr>
        <p:sp>
          <p:nvSpPr>
            <p:cNvPr id="925" name=""/>
            <p:cNvSpPr/>
            <p:nvPr/>
          </p:nvSpPr>
          <p:spPr>
            <a:xfrm>
              <a:off x="393840" y="22622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76200" y="1966680"/>
              <a:ext cx="468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816360" y="1967040"/>
            <a:ext cx="293760" cy="299880"/>
            <a:chOff x="3816360" y="1967040"/>
            <a:chExt cx="293760" cy="299880"/>
          </a:xfrm>
        </p:grpSpPr>
        <p:sp>
          <p:nvSpPr>
            <p:cNvPr id="928" name=""/>
            <p:cNvSpPr/>
            <p:nvPr/>
          </p:nvSpPr>
          <p:spPr>
            <a:xfrm flipV="1">
              <a:off x="4103640" y="196704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816360" y="2249640"/>
              <a:ext cx="29376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4231800" y="1135080"/>
            <a:ext cx="2103840" cy="1192680"/>
            <a:chOff x="4231800" y="1135080"/>
            <a:chExt cx="2103840" cy="1192680"/>
          </a:xfrm>
        </p:grpSpPr>
        <p:sp>
          <p:nvSpPr>
            <p:cNvPr id="931" name=""/>
            <p:cNvSpPr/>
            <p:nvPr/>
          </p:nvSpPr>
          <p:spPr>
            <a:xfrm>
              <a:off x="4234680" y="1217520"/>
              <a:ext cx="13543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  421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31800" y="1494000"/>
              <a:ext cx="1450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ED:    3 JULY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32880" y="1909800"/>
              <a:ext cx="2102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  DAFI01-**-C-289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64200" y="1135080"/>
              <a:ext cx="2058840" cy="113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57720" y="1486080"/>
              <a:ext cx="20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4262400" y="1890720"/>
              <a:ext cx="206532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27160" y="857160"/>
            <a:ext cx="6269040" cy="1681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0840" y="787320"/>
            <a:ext cx="6437160" cy="1830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69920" y="3087720"/>
            <a:ext cx="63608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PTION OF SERVICES               ESTIMATED COST       PERCENTAGE OF COMPLE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08080" y="3048120"/>
            <a:ext cx="624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080" y="3325680"/>
            <a:ext cx="624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200" y="3740040"/>
            <a:ext cx="622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4200" y="3778200"/>
            <a:ext cx="622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21000" y="3054240"/>
            <a:ext cx="4680" cy="6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52960" y="3054240"/>
            <a:ext cx="6120" cy="64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1360" y="3441600"/>
            <a:ext cx="5553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NTING OF BUILDINGS 100 - 118                          $24,000.00                                                          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86480" y="4048200"/>
            <a:ext cx="25783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OUNT CLAIMED FOR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00800" y="4092480"/>
            <a:ext cx="28738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0 JUNE   **                                        =           $7,2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82160" y="4532400"/>
            <a:ext cx="30949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ESS RETAINED PERCENTAGE @ 10%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91520" y="4594320"/>
            <a:ext cx="994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          $   72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16160" y="4878360"/>
            <a:ext cx="1212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AMOU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35680" y="4940280"/>
            <a:ext cx="644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6,48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68640" y="4856040"/>
            <a:ext cx="1668600" cy="26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86120" y="5294160"/>
            <a:ext cx="25282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COUNTING CLASS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53640" y="5356080"/>
            <a:ext cx="3466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*2020  76-9505  192131.13-257H  W91DEH*00602891/KFDE  S090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60" y="5780160"/>
            <a:ext cx="8578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END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58400" y="5853240"/>
            <a:ext cx="14184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RMAN PAINTING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 STEDMAN DR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NESVILLE, GA  313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73880" y="6100920"/>
            <a:ext cx="2072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IE SHERMAN, GENERAL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7200" y="6541920"/>
            <a:ext cx="1374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ERT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1000" y="6586560"/>
            <a:ext cx="4684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CERTIFY THE SERVICES LISTED ON THIS INVOICE ARE AN ACCURATE REPRES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SERVICES PERFORMED.  SERVICES ACCEPTED 5 JULY **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221360" y="7521480"/>
            <a:ext cx="21697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.D. P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ING AND HOUS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36680" y="5857920"/>
            <a:ext cx="10756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Julie Sher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51320" y="7243920"/>
            <a:ext cx="860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Handwriting"/>
              </a:rPr>
              <a:t>W. D. P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7315200"/>
            <a:ext cx="175248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24280" y="5562720"/>
            <a:ext cx="1752840" cy="49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DE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9" name=""/>
          <p:cNvGraphicFramePr/>
          <p:nvPr/>
        </p:nvGraphicFramePr>
        <p:xfrm>
          <a:off x="0" y="0"/>
          <a:ext cx="6840360" cy="912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"/>
          <p:cNvSpPr/>
          <p:nvPr/>
        </p:nvSpPr>
        <p:spPr>
          <a:xfrm>
            <a:off x="3212280" y="88390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702400" y="86868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2408400" y="282600"/>
            <a:ext cx="2181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ISCELLANEOUS VOUCH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7600" y="647640"/>
            <a:ext cx="5870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You are a voucher examiner assigned to the Accounts Payable Branch at F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ewart, GA.  You have the following documents in your offic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12760" y="1362240"/>
            <a:ext cx="505296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F 44 Copy 1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Contract, Invoice, Receiving Report , and Payment Vouch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Vendors 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5520" y="2463840"/>
            <a:ext cx="41983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Prepare the miscellaneous payment vouch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1280" y="2879640"/>
            <a:ext cx="189108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NERAL INFORM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18520" y="3225960"/>
            <a:ext cx="38811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ODAY’S 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10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XPECTED CHECK PAYMENT 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13 Jul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ATE INTEREST PENALTY PAY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8.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TEREST ACCOUNTING CLASSIFIC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*2020  76-9505  111011.00-43AJ  SDN/APC  S090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12280" y="863928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6019920"/>
            <a:ext cx="1447920" cy="533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275280" y="1371600"/>
            <a:ext cx="673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Apri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6520" y="696744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23800" y="7659720"/>
            <a:ext cx="793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ay J. B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5200" y="8491680"/>
            <a:ext cx="12920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Thomas Edwa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2120" y="8515440"/>
            <a:ext cx="6595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35760" y="8763120"/>
            <a:ext cx="5270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46040" y="601992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5562720"/>
            <a:ext cx="20340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52578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65480" y="7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0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60280" y="102240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OODYEAR PARTS &amp; SERVIC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1 SUNSE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NESVILLE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44800" y="1617840"/>
            <a:ext cx="193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ARMY RESERV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43000" y="2255760"/>
            <a:ext cx="5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o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945600" y="22366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9792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2956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9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08520" y="405144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981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49400" y="4370400"/>
            <a:ext cx="7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% 1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5728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4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38560" y="578340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27520" y="60199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31840" y="604512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73040" y="690408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.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326040" y="691200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B. Ho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647600" y="696276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47040" y="327672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044440" y="245736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diator Ho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5600" y="24382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9792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09328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044440" y="26859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ndshield Wip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945600" y="26668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8280" y="2666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93280" y="26668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043720" y="2838600"/>
            <a:ext cx="6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il Fil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45600" y="281952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97920" y="2819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93280" y="2819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42280" y="3032280"/>
            <a:ext cx="15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235-15, Goodyear T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945240" y="3013200"/>
            <a:ext cx="46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97920" y="30132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1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029560" y="30132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38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1228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265840" y="70020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0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058480" y="1022400"/>
            <a:ext cx="209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cDUFFIE LOCKS &amp; SAF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512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ANNAH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44800" y="1617840"/>
            <a:ext cx="193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ARMY RESERV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43360" y="2255760"/>
            <a:ext cx="126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eld Safes,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945600" y="22366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9756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93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029560" y="22366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86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808520" y="40514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1,055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50120" y="437040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 % 30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25728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1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338560" y="578340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27520" y="60199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1840" y="6045120"/>
            <a:ext cx="68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147040" y="327672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043360" y="245736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sh 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45600" y="243828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9792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093280" y="24382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9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1228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557280" y="711360"/>
            <a:ext cx="3678120" cy="27334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93480" y="68580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4325040" y="911160"/>
            <a:ext cx="2053800" cy="1373760"/>
            <a:chOff x="4325040" y="911160"/>
            <a:chExt cx="2053800" cy="1373760"/>
          </a:xfrm>
        </p:grpSpPr>
        <p:sp>
          <p:nvSpPr>
            <p:cNvPr id="1243" name=""/>
            <p:cNvSpPr/>
            <p:nvPr/>
          </p:nvSpPr>
          <p:spPr>
            <a:xfrm>
              <a:off x="4346640" y="911160"/>
              <a:ext cx="2003400" cy="13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46640" y="1182600"/>
              <a:ext cx="2011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4357800" y="1514160"/>
              <a:ext cx="19843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51320" y="1858680"/>
              <a:ext cx="199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25040" y="944280"/>
              <a:ext cx="1197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583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68600" y="1184040"/>
              <a:ext cx="772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VO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64120" y="1290600"/>
              <a:ext cx="871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4 JUNE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66160" y="1638360"/>
              <a:ext cx="1418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RMS:  2/10, N/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30800" y="1866960"/>
              <a:ext cx="807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62320" y="1984320"/>
              <a:ext cx="1316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FI01-**-M-045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123920" y="795240"/>
            <a:ext cx="242892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DUFFIE LOCKS &amp; SAFES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12 CENTER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, GA  314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130400" y="175248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06240" y="198900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3889440" y="2351160"/>
            <a:ext cx="261720" cy="288720"/>
            <a:chOff x="3889440" y="2351160"/>
            <a:chExt cx="261720" cy="288720"/>
          </a:xfrm>
        </p:grpSpPr>
        <p:sp>
          <p:nvSpPr>
            <p:cNvPr id="1257" name=""/>
            <p:cNvSpPr/>
            <p:nvPr/>
          </p:nvSpPr>
          <p:spPr>
            <a:xfrm flipV="1">
              <a:off x="4151160" y="23511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89440" y="2630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49440" y="2351160"/>
            <a:ext cx="280800" cy="288720"/>
            <a:chOff x="649440" y="2351160"/>
            <a:chExt cx="280800" cy="288720"/>
          </a:xfrm>
        </p:grpSpPr>
        <p:sp>
          <p:nvSpPr>
            <p:cNvPr id="1260" name=""/>
            <p:cNvSpPr/>
            <p:nvPr/>
          </p:nvSpPr>
          <p:spPr>
            <a:xfrm flipV="1">
              <a:off x="655560" y="23511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649440" y="2630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3889440" y="1674720"/>
            <a:ext cx="261720" cy="273240"/>
            <a:chOff x="3889440" y="1674720"/>
            <a:chExt cx="261720" cy="273240"/>
          </a:xfrm>
        </p:grpSpPr>
        <p:sp>
          <p:nvSpPr>
            <p:cNvPr id="1263" name=""/>
            <p:cNvSpPr/>
            <p:nvPr/>
          </p:nvSpPr>
          <p:spPr>
            <a:xfrm>
              <a:off x="4151160" y="1682640"/>
              <a:ext cx="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89440" y="16747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1130760" y="2725560"/>
            <a:ext cx="2197440" cy="41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.S. ARMY RESERVE CEN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06600" y="285444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44680" y="394812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4680" y="4267080"/>
            <a:ext cx="576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5040" y="400536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175760" y="4394160"/>
            <a:ext cx="163476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Safes,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33080" y="439416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557600" y="4384800"/>
            <a:ext cx="7542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459040" y="4394160"/>
            <a:ext cx="8028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990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03480" y="47703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203480" y="51483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03480" y="5530680"/>
            <a:ext cx="1666800" cy="2685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03480" y="594684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052800" y="4390920"/>
            <a:ext cx="7272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52800" y="476892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052800" y="51483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052800" y="553068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052800" y="5946840"/>
            <a:ext cx="72720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280320" y="440064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40280" y="476892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0280" y="51483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40280" y="553068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040280" y="59468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48240" y="4768920"/>
            <a:ext cx="7588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64080" y="514836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64080" y="553068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564080" y="594684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50040" y="476892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450040" y="51483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450040" y="553068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50040" y="5946840"/>
            <a:ext cx="836640" cy="26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076400" y="3954600"/>
            <a:ext cx="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900240" y="395460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4463640" y="3954600"/>
            <a:ext cx="1764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8400" y="3954600"/>
            <a:ext cx="0" cy="23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49480" y="395460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7280" y="634536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890880" y="6448320"/>
            <a:ext cx="1467000" cy="22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367240" y="6448320"/>
            <a:ext cx="928800" cy="220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20400" y="644688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2240" y="644688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059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49440" y="1676520"/>
            <a:ext cx="280800" cy="268200"/>
            <a:chOff x="649440" y="1676520"/>
            <a:chExt cx="280800" cy="268200"/>
          </a:xfrm>
        </p:grpSpPr>
        <p:sp>
          <p:nvSpPr>
            <p:cNvPr id="1307" name=""/>
            <p:cNvSpPr/>
            <p:nvPr/>
          </p:nvSpPr>
          <p:spPr>
            <a:xfrm>
              <a:off x="655560" y="16812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649440" y="1676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4688280" y="3087720"/>
            <a:ext cx="14184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2/10, N/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11280" y="4376880"/>
            <a:ext cx="339480" cy="2584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180800" y="4803840"/>
            <a:ext cx="769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Bo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280320" y="478800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033080" y="479412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666320" y="479412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59760" y="4794120"/>
            <a:ext cx="8028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 69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11280" y="5154480"/>
            <a:ext cx="3394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1280" y="5554800"/>
            <a:ext cx="339480" cy="25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1280" y="5948280"/>
            <a:ext cx="3394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11280" y="4776840"/>
            <a:ext cx="339480" cy="25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85320" y="243828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212280" y="86202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571680" y="101520"/>
            <a:ext cx="58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. S. GOVERNMENT</a:t>
            </a:r>
            <a:br>
              <a:rPr sz="4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CHASE ORDER-INVOICE-VOU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92160" y="615960"/>
            <a:ext cx="3587760" cy="811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067360" y="2139840"/>
            <a:ext cx="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686480" y="602928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9479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292480" y="711216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86240" y="63054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08480" y="647388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590920" y="6477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892160" y="24382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892160" y="4876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892160" y="5181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892160" y="6705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86240" y="72198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57880" y="6838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892160" y="91440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892160" y="1523880"/>
            <a:ext cx="35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892160" y="2133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511520" y="426708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11520" y="4572000"/>
            <a:ext cx="96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576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72080" y="8032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51120" y="574560"/>
            <a:ext cx="1025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ATE OF OR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966120" y="574560"/>
            <a:ext cx="75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DER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543480" y="6159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849680" y="901800"/>
            <a:ext cx="2877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INT NAME AND ADDRESS OF SELLER   (Number, Street, City, and  State)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rot="5400000">
            <a:off x="1795320" y="1167840"/>
            <a:ext cx="438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968120" y="1511280"/>
            <a:ext cx="2264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URNISH SUPPLIES OR SERVICES TO ( Name and addres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479680" y="2111400"/>
            <a:ext cx="1225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UPPLIES OR SERVIC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916800" y="2111400"/>
            <a:ext cx="659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995360" y="2098800"/>
            <a:ext cx="58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431960" y="2111400"/>
            <a:ext cx="70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NIT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14840" y="4051440"/>
            <a:ext cx="17024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GENCY NAME AND BILLING ADDRESS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505400" y="2139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5400000">
            <a:off x="1765800" y="4368240"/>
            <a:ext cx="45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443840" y="4089240"/>
            <a:ext cx="4467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45640" y="4292640"/>
            <a:ext cx="8719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SCOUNT TE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ET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424400" y="4584600"/>
            <a:ext cx="985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970280" y="4206960"/>
            <a:ext cx="1952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TN: 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850400" y="4863960"/>
            <a:ext cx="138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DERED BY ( Signature and titl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834200" y="5156280"/>
            <a:ext cx="1524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POSE AND ACCOUNTING DAT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337480" y="5562720"/>
            <a:ext cx="12877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URCHASER - To sign below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855440" y="5676840"/>
            <a:ext cx="705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85400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08320" y="6161040"/>
            <a:ext cx="1673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 - Please read instructions on Copy 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92360" y="76201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14920" y="7205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57600" y="7962840"/>
            <a:ext cx="153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063880" y="762012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36800" y="782316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063880" y="853452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3360" y="5981760"/>
            <a:ext cx="411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39120" y="5981760"/>
            <a:ext cx="920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PT, AG ADJUTA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083680" y="6248520"/>
            <a:ext cx="5806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309760" y="628668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82800" y="6286680"/>
            <a:ext cx="649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REQUES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71640" y="6692760"/>
            <a:ext cx="1864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O FURTHER INVOICE NEED BE SUBMIT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910880" y="6794640"/>
            <a:ext cx="4802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L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09800" y="6997680"/>
            <a:ext cx="31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711520" y="7070760"/>
            <a:ext cx="65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842840" y="7213680"/>
            <a:ext cx="1473840" cy="2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 certify that this account is correct and prop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for payment in the amount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016720" y="7823160"/>
            <a:ext cx="1011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(Authorized certifying officer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53840" y="7201080"/>
            <a:ext cx="7376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IFFERENCE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54920" y="7607160"/>
            <a:ext cx="943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AMOUNT VERIFIE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000680" y="7669080"/>
            <a:ext cx="7423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ORRECT F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53120" y="7810560"/>
            <a:ext cx="28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853280" y="8013600"/>
            <a:ext cx="49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AI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481480" y="8115480"/>
            <a:ext cx="3931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852200" y="8420040"/>
            <a:ext cx="2959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825280" y="8013600"/>
            <a:ext cx="597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 PAI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95840" y="8013600"/>
            <a:ext cx="7239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VOUCH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26080" y="8724960"/>
            <a:ext cx="903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PLEASE INCLU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ZIP CO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83240" y="8724960"/>
            <a:ext cx="978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1. SELLER’S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737880" y="8724960"/>
            <a:ext cx="140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TANDARD FORM 44a (Rev. 10-83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RESCRIBED BY G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FAR (48CFR) 53.213(c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911240" y="225756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892160" y="26668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892160" y="2867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92160" y="30574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892160" y="3247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92160" y="342900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892160" y="362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92160" y="38386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892160" y="40575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892160" y="55627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892160" y="569592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92160" y="6000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892160" y="62103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892160" y="62960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92160" y="681984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92160" y="720108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92360" y="7391520"/>
            <a:ext cx="198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711680" y="77914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892160" y="8039160"/>
            <a:ext cx="358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962520" y="216864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265480" y="7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723120" y="698400"/>
            <a:ext cx="12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M-02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60640" y="1022400"/>
            <a:ext cx="235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 FOOD SERVIC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98 HARDING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DEN CITY, GA 314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044800" y="1617840"/>
            <a:ext cx="193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ARMY RESERVE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43360" y="2255760"/>
            <a:ext cx="82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, W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45600" y="22366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g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598280" y="2236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29560" y="223668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.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05920" y="384192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yment Due Da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808880" y="40514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82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49400" y="43704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2 % 5d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97800" y="500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.M. BECKTON, MAJ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257280" y="4869000"/>
            <a:ext cx="104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C.M. BECK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869120" y="531828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*2020 76-9505 111011.00 - 26EB SDRN/A111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338560" y="578340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.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27520" y="6019920"/>
            <a:ext cx="139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TOR POOL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731840" y="604512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48160" y="6338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06760" y="63133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71960" y="69040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KE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357000" y="691200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IKE EL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647600" y="6962760"/>
            <a:ext cx="60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147040" y="3276720"/>
            <a:ext cx="1477800" cy="550800"/>
          </a:xfrm>
          <a:prstGeom prst="rect">
            <a:avLst/>
          </a:prstGeom>
          <a:solidFill>
            <a:srgbClr val="cecec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JUL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41560" y="2457360"/>
            <a:ext cx="75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, Sk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945600" y="24382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g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598280" y="2438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093280" y="24382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042640" y="26859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lk, Low 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45600" y="26668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g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98280" y="2666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093280" y="26668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.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044440" y="2838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945240" y="2819520"/>
            <a:ext cx="58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lb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98280" y="2819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29560" y="281952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43360" y="303228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945240" y="301320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 lb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97920" y="3013200"/>
            <a:ext cx="4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029560" y="301320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212280" y="8848800"/>
            <a:ext cx="290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27880" y="862020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702400" y="86104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800600" y="2209680"/>
            <a:ext cx="1371600" cy="533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7280" y="31608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93480" y="26820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6640" y="601560"/>
            <a:ext cx="2003400" cy="130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838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2952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1523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25040" y="587520"/>
            <a:ext cx="1352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71029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68600" y="83808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63040" y="990720"/>
            <a:ext cx="8103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9 MAY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68680" y="1295280"/>
            <a:ext cx="124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30800" y="152388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63760" y="1523880"/>
            <a:ext cx="1299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12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0240" y="398520"/>
            <a:ext cx="288756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DY ELECTRONICS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1 EAST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YORK, NY  101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0400" y="133992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6240" y="156204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89440" y="1920960"/>
            <a:ext cx="261720" cy="288720"/>
            <a:chOff x="3889440" y="1920960"/>
            <a:chExt cx="261720" cy="288720"/>
          </a:xfrm>
        </p:grpSpPr>
        <p:sp>
          <p:nvSpPr>
            <p:cNvPr id="93" name=""/>
            <p:cNvSpPr/>
            <p:nvPr/>
          </p:nvSpPr>
          <p:spPr>
            <a:xfrm flipV="1">
              <a:off x="4151160" y="19209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9440" y="220176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49440" y="1920960"/>
            <a:ext cx="280800" cy="288720"/>
            <a:chOff x="649440" y="1920960"/>
            <a:chExt cx="280800" cy="288720"/>
          </a:xfrm>
        </p:grpSpPr>
        <p:sp>
          <p:nvSpPr>
            <p:cNvPr id="96" name=""/>
            <p:cNvSpPr/>
            <p:nvPr/>
          </p:nvSpPr>
          <p:spPr>
            <a:xfrm flipV="1">
              <a:off x="655560" y="192096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49440" y="220176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889440" y="1251000"/>
            <a:ext cx="261720" cy="272520"/>
            <a:chOff x="3889440" y="1251000"/>
            <a:chExt cx="261720" cy="272520"/>
          </a:xfrm>
        </p:grpSpPr>
        <p:sp>
          <p:nvSpPr>
            <p:cNvPr id="99" name=""/>
            <p:cNvSpPr/>
            <p:nvPr/>
          </p:nvSpPr>
          <p:spPr>
            <a:xfrm>
              <a:off x="4151160" y="126036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9440" y="1251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191600" y="2270160"/>
            <a:ext cx="237420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S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6600" y="240048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5040" y="338148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4680" y="377028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0760" y="3780000"/>
            <a:ext cx="170028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, Paper 81/2” x 1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3080" y="377028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760920"/>
            <a:ext cx="74448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9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28800" y="3770280"/>
            <a:ext cx="8456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9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880" y="493380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10840" y="3776760"/>
            <a:ext cx="418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50040" y="414504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452448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0040" y="4906800"/>
            <a:ext cx="8366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50040" y="5322960"/>
            <a:ext cx="8366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36240" y="582300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28080" y="58230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,124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9440" y="1257480"/>
            <a:ext cx="280800" cy="266040"/>
            <a:chOff x="649440" y="1257480"/>
            <a:chExt cx="280800" cy="266040"/>
          </a:xfrm>
        </p:grpSpPr>
        <p:sp>
          <p:nvSpPr>
            <p:cNvPr id="148" name=""/>
            <p:cNvSpPr/>
            <p:nvPr/>
          </p:nvSpPr>
          <p:spPr>
            <a:xfrm>
              <a:off x="655560" y="1260360"/>
              <a:ext cx="0" cy="26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49440" y="125748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40520" y="418608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60720" y="4186080"/>
            <a:ext cx="126612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3.5”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00480" y="418608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41000" y="418608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6680" y="418608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3440" y="4186080"/>
            <a:ext cx="7174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9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20968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7543800"/>
            <a:ext cx="144792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758840" y="5119560"/>
            <a:ext cx="3913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5120" y="6481800"/>
            <a:ext cx="1153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Brian W. Just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68120" y="8143920"/>
            <a:ext cx="95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7620120"/>
            <a:ext cx="135612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87631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73920" y="247680"/>
            <a:ext cx="1732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1320" y="247680"/>
            <a:ext cx="880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2440" y="593640"/>
            <a:ext cx="45777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Zenith Computer Incorporated, 7131 Star Street, Glennville, GA  304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40" y="939960"/>
            <a:ext cx="20264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 #  DAFI01-**-C-21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600" y="1211400"/>
            <a:ext cx="6703560" cy="25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M                               SUPPLIES/SERVICES                      QTY         UNIT         PRICE       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6120" y="1633680"/>
            <a:ext cx="51336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0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59080" y="1633680"/>
            <a:ext cx="2392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e Cable, Part #2349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ter Ribbons, Part #2745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, Color, Zenith Part #3901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U, Zenith, Model 486D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lank Dis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vard Graphics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er Jet IV Printer, Part #40921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440" y="1633680"/>
            <a:ext cx="31824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57240" y="1633680"/>
            <a:ext cx="31824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30640" y="1633680"/>
            <a:ext cx="78912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39.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19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505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,757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12.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495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799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32360" y="1633680"/>
            <a:ext cx="78912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197.7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3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,059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,031.8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    38.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,477.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1,599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1120" y="4057560"/>
            <a:ext cx="591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0440" y="4403880"/>
            <a:ext cx="5248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IPM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FOB Destin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Director, Information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9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VO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(Must include) - Contract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nded Am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or’s name and remit addr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 will be made upon receipt and acceptance of the goods and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6840360" cy="912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40360" cy="912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421960" y="6411960"/>
            <a:ext cx="7801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Fred Car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4680" y="6435720"/>
            <a:ext cx="693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9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8760" y="8763120"/>
            <a:ext cx="9126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533412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JUL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191120"/>
            <a:ext cx="203040" cy="21564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64040" y="4343400"/>
            <a:ext cx="20304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4495680"/>
            <a:ext cx="203400" cy="216000"/>
          </a:xfrm>
          <a:custGeom>
            <a:avLst/>
            <a:gdLst/>
            <a:ahLst/>
            <a:rect l="l" t="t" r="r" b="b"/>
            <a:pathLst>
              <a:path w="128" h="136">
                <a:moveTo>
                  <a:pt x="14" y="63"/>
                </a:moveTo>
                <a:lnTo>
                  <a:pt x="0" y="100"/>
                </a:lnTo>
                <a:lnTo>
                  <a:pt x="49" y="135"/>
                </a:lnTo>
                <a:lnTo>
                  <a:pt x="127" y="16"/>
                </a:lnTo>
                <a:lnTo>
                  <a:pt x="127" y="0"/>
                </a:lnTo>
                <a:lnTo>
                  <a:pt x="40" y="101"/>
                </a:lnTo>
                <a:lnTo>
                  <a:pt x="14" y="6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57280" y="468360"/>
            <a:ext cx="3678120" cy="27320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93480" y="398520"/>
            <a:ext cx="7905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6640" y="677880"/>
            <a:ext cx="2003400" cy="130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144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2952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600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23600" y="636480"/>
            <a:ext cx="14400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 131-9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68600" y="876240"/>
            <a:ext cx="772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64120" y="984240"/>
            <a:ext cx="871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9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8680" y="1349280"/>
            <a:ext cx="124488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30800" y="1562040"/>
            <a:ext cx="807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3760" y="1638360"/>
            <a:ext cx="1299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21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30600" y="550800"/>
            <a:ext cx="2794680" cy="63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NITH COMPUTER INCORPO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31 STAR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ENNVILLE, GA  304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30400" y="1508040"/>
            <a:ext cx="2104200" cy="75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6240" y="1744560"/>
            <a:ext cx="543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889440" y="2106720"/>
            <a:ext cx="261720" cy="288720"/>
            <a:chOff x="3889440" y="2106720"/>
            <a:chExt cx="261720" cy="288720"/>
          </a:xfrm>
        </p:grpSpPr>
        <p:sp>
          <p:nvSpPr>
            <p:cNvPr id="213" name=""/>
            <p:cNvSpPr/>
            <p:nvPr/>
          </p:nvSpPr>
          <p:spPr>
            <a:xfrm flipV="1">
              <a:off x="41511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9440" y="23875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9440" y="2106720"/>
            <a:ext cx="280800" cy="288720"/>
            <a:chOff x="649440" y="2106720"/>
            <a:chExt cx="280800" cy="288720"/>
          </a:xfrm>
        </p:grpSpPr>
        <p:sp>
          <p:nvSpPr>
            <p:cNvPr id="216" name=""/>
            <p:cNvSpPr/>
            <p:nvPr/>
          </p:nvSpPr>
          <p:spPr>
            <a:xfrm flipV="1">
              <a:off x="655560" y="210672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9440" y="2387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9440" y="1430280"/>
            <a:ext cx="261720" cy="273240"/>
            <a:chOff x="3889440" y="1430280"/>
            <a:chExt cx="261720" cy="273240"/>
          </a:xfrm>
        </p:grpSpPr>
        <p:sp>
          <p:nvSpPr>
            <p:cNvPr id="219" name=""/>
            <p:cNvSpPr/>
            <p:nvPr/>
          </p:nvSpPr>
          <p:spPr>
            <a:xfrm>
              <a:off x="4151160" y="144000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9440" y="14302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125360" y="2481120"/>
            <a:ext cx="2995920" cy="585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RECTOR, INFORMATION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ING #93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6600" y="2610000"/>
            <a:ext cx="4888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4680" y="3325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4680" y="3649680"/>
            <a:ext cx="57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040" y="3381480"/>
            <a:ext cx="5614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4680" y="3770280"/>
            <a:ext cx="2480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22560" y="3780000"/>
            <a:ext cx="1698840" cy="250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e Cable #23490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3080" y="3770280"/>
            <a:ext cx="36684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760920"/>
            <a:ext cx="74448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.5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46800" y="3760920"/>
            <a:ext cx="873000" cy="265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197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880" y="414648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880" y="453384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880" y="4917960"/>
            <a:ext cx="218880" cy="258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880" y="5340240"/>
            <a:ext cx="218880" cy="26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03480" y="414648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03480" y="4524480"/>
            <a:ext cx="1666800" cy="269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3480" y="4906800"/>
            <a:ext cx="166680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3480" y="5322960"/>
            <a:ext cx="166680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2800" y="376704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52800" y="414504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52800" y="452448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0" y="49068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2800" y="532296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12640" y="3776760"/>
            <a:ext cx="41868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0280" y="414504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4524480"/>
            <a:ext cx="36504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40280" y="4906800"/>
            <a:ext cx="365040" cy="254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0280" y="5322960"/>
            <a:ext cx="365040" cy="25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64080" y="4145040"/>
            <a:ext cx="7570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64080" y="4524480"/>
            <a:ext cx="74916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64080" y="490680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64080" y="5322960"/>
            <a:ext cx="744480" cy="27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65880" y="4145040"/>
            <a:ext cx="8348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65880" y="4524480"/>
            <a:ext cx="8348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65880" y="4906800"/>
            <a:ext cx="8348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65880" y="5322960"/>
            <a:ext cx="83484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76400" y="3332160"/>
            <a:ext cx="0" cy="23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00240" y="3332160"/>
            <a:ext cx="1404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68680" y="3330720"/>
            <a:ext cx="1800" cy="23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78400" y="3332160"/>
            <a:ext cx="0" cy="23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49480" y="3332160"/>
            <a:ext cx="4680" cy="23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7280" y="5722920"/>
            <a:ext cx="574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05280" y="5824440"/>
            <a:ext cx="146700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1640" y="5824440"/>
            <a:ext cx="928800" cy="222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36240" y="5823000"/>
            <a:ext cx="10620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28080" y="58230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,637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49440" y="1433520"/>
            <a:ext cx="280800" cy="266760"/>
            <a:chOff x="649440" y="1433520"/>
            <a:chExt cx="280800" cy="266760"/>
          </a:xfrm>
        </p:grpSpPr>
        <p:sp>
          <p:nvSpPr>
            <p:cNvPr id="268" name=""/>
            <p:cNvSpPr/>
            <p:nvPr/>
          </p:nvSpPr>
          <p:spPr>
            <a:xfrm>
              <a:off x="655560" y="1436760"/>
              <a:ext cx="0" cy="2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9440" y="143352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0520" y="418608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0760" y="4195800"/>
            <a:ext cx="1633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nter Ribbons #458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0480" y="418608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41000" y="418608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56680" y="4186080"/>
            <a:ext cx="54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28800" y="418608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 38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4960" y="4532400"/>
            <a:ext cx="2480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31200" y="4564080"/>
            <a:ext cx="1525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or Monitor #3489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94360" y="4532400"/>
            <a:ext cx="3333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0480" y="4532400"/>
            <a:ext cx="3668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0000" y="4538520"/>
            <a:ext cx="6321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5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28080" y="4532400"/>
            <a:ext cx="84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,059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8400" y="8763120"/>
            <a:ext cx="9446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 PE  7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41160" y="8763120"/>
            <a:ext cx="2268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26080" y="8763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438280"/>
            <a:ext cx="1356120" cy="494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21:29:15Z</dcterms:created>
  <dc:creator>finance school</dc:creator>
  <dc:description/>
  <dc:language>en-US</dc:language>
  <cp:lastModifiedBy>Administrator</cp:lastModifiedBy>
  <cp:lastPrinted>2000-02-28T16:12:01Z</cp:lastPrinted>
  <dcterms:modified xsi:type="dcterms:W3CDTF">2005-03-23T15:46:37Z</dcterms:modified>
  <cp:revision>31</cp:revision>
  <dc:subject/>
  <dc:title>COMP PE</dc:title>
</cp:coreProperties>
</file>